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8781-DC55-49CC-B2A4-06435115F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02AE-365C-4BD4-B3C2-D717C5D1C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CD6-286D-4D24-958D-4A3FACF1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B8E-9732-4B5A-A6E3-0001B1A1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1F5-C65A-4CBA-BA72-941CE7EE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D36-8330-4A9E-8CC7-2E8254DE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ED7-A47E-42E2-8D8D-740D60D7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822-BC2F-4E40-8E29-174EB6F6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4F8-9CEA-4E5B-8578-05E7A6F1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CB6-76B7-4D5B-9C5F-CC37E02E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F87-A151-475D-B414-640BDC21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7E5-C943-49CA-98E1-AAFF4A91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748-AF3A-446F-859A-D4CF425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BDD-4FFD-45E8-A146-1B1077F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992D-1428-44E0-B0C8-402926BE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4 The ______________ model holds that cities expand outward in circular 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dg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ncentric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eriph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ultiple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3_03"/>
          <p:cNvPicPr/>
          <p:nvPr/>
        </p:nvPicPr>
        <p:blipFill>
          <a:blip r:embed="rId1"/>
          <a:stretch/>
        </p:blipFill>
        <p:spPr>
          <a:xfrm>
            <a:off x="2057400" y="685800"/>
            <a:ext cx="495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5 Dwelling pattern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ary dramatically based on ancient cultural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end to be similar to Europea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nd to be similar to America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strongly regulated by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ead to strong intermixing of rich and poor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5 Dwelling pattern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ary dramatically based on ancient cultural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Tend to be similar to Europea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nd to be similar to America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strongly regulated by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ead to strong intermixing of rich and poor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6 In Latin American cities, the very poor tend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 the periphery of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narrow corridors radiating out from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a ring that immediately surround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edge cities physically separated from l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6 In Latin American cities, the very poor tend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On the periphery of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narrow corridors radiating out from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a ring that immediately surround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edge cities physically separated from lar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3_15"/>
          <p:cNvPicPr/>
          <p:nvPr/>
        </p:nvPicPr>
        <p:blipFill>
          <a:blip r:embed="rId1"/>
          <a:stretch/>
        </p:blipFill>
        <p:spPr>
          <a:xfrm>
            <a:off x="2743200" y="76212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7 The process by which banks identify urban areas in which they will not make residential loans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rene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lack-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l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n-be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dl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7 The process by which banks identify urban areas in which they will not make residential loans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rene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lack-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l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n-be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Red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8 The process by which an inner-city neighborhood is renovated and attracts middle-class families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nex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ntr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dl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ublic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b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1 Which of the following countri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b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8 The process by which an inner-city neighborhood is renovated and attracts middle-class families i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nex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entr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dl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ublic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b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9 Polls in the United States show that most people prefer to liv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i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mall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r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bur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y place that is within 5 miles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9 Polls in the United States show that most people prefer to liv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ity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mall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r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ubu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y place that is within 5 miles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10 In the United States, local government can best be describ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solid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gm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rb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nit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archic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10 In the United States, local government can best be describ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solid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Fragmen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rb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nit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archic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1 Which of the following countri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b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3_01"/>
          <p:cNvPicPr/>
          <p:nvPr/>
        </p:nvPicPr>
        <p:blipFill>
          <a:blip r:embed="rId1"/>
          <a:stretch/>
        </p:blipFill>
        <p:spPr>
          <a:xfrm>
            <a:off x="0" y="739800"/>
            <a:ext cx="91440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2 Over the last five decades urban growth rates have been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2 Over the last five decades urban growth rates have been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3 In the United States, which of the following is most likely to have the larges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etropolitan statistic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u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arg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iz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cropolitan statistic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3 In the United States, which of the following is most likely to have the larges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ropolitan statistic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u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arg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iz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cropolitan statistic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4 The ______________ model holds that cities expand outward in circular 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dg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centric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eriph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ultiple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24:16Z</dcterms:modified>
  <cp:revision>84</cp:revision>
  <dc:subject/>
  <dc:title>CRS Chapter 4</dc:title>
</cp:coreProperties>
</file>